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885-FBF8-4890-BF02-C6D95AB8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D38-B7A0-480D-BE9E-9FE35845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264-6973-4DDE-9754-B2AE644F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450-566B-4F43-A85B-FB2CF1CB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308D-C541-4D00-A922-5516F0CD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19B-59A6-4F14-8E45-975F63AF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DAD-26D4-4C51-AE33-5F7F73F4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1AE-9E19-44B8-B178-4CEBFAFF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CBE-C538-418D-B335-B1B579E1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22D-4056-4CD2-9263-4253F799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AB8-17DB-40E6-B94F-FEDE6EB9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3D0-DCC8-4DC8-B6E9-43B4CFEA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CA5D-191C-48DB-8FF3-B9925658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-MAIL=ELECTRONIC MAIL WHICH ALLOWS INDIVIDUALS WITH AN ACCOUNT TO SEND MESSAGES TO ANOTHER PERSON WITH AN E-MAIL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RC=INTERNET RELAY CHAT WAS DEVELOPED IN 1988 BY JARKKO OIKARINEN AND ALLOWS INSTANT ONLINE COMMUNICATING WITH SOMEONE ELSE WHO IS ALSO ONLINE BY TYPING MESSAGES BACK AND F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BS=BULLETIN BOARD SERVICE ALLOWS A USER TO PARTICIPATE IN A DISCUSSIO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HTTP=HYPERTEXT TRANSFER PROTOCOL IS USED FOR HANDLING THE TRANSMISSION OF PAGES BETWEEN A WEB SERVER AND A WEB BROW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FTP=FILE TRANSFER PROTOCOL IS USED TO RAPIDLY TRANSF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TELNET=A PROGRAM USED ON NETWORKS SUCH AS THE INTERNET TO ALLOW USERS TO REMOTELY LOG ON TO A SERVER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PHER=ONE OF THE FIRST WIDESPREAD INTERNET BROWSING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ET=A NETWORK USED BY A SINGLE ORGANIZATION AND ONLY ACCESSIBLE BY AUTHORIZ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WALL=A NETWORK SECURITY SYSTEM THAT PREVENTS UNAUTHORIZED NETWORK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TRANET=AN EXTENDED INTRANET THAT PROVIDES VARIOUS LEVEL OF ACCESS TO AUTHORIZED MEMBERS OF THE PUB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LINE PROFILING=A MARKETING TECHNIQUE THAT COLLECTS ONLINE DATA ABOUT CONSU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OKIES=SMALL FILES THAT CONTAIN INFORMATION ABOUT THE WEB SITES AN INDIVIDUAL HAS VISI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USENET=A COLLECTION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ANDWIDTH=THE AMOUNT OF DATA AND THE SPEED AT WHICH THE DATA CAN TRAVEL OVER THE TRANSMISSIO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ENT=A COMPUTER THAT ACCESSE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50000">
              <a:srgbClr val="156b13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THERNET=A WIDELY USED PROTOCOL FOR LANS THAT USES A BUS OR STAR TOPOLOG AND CONNECTS THE NETWORK DEVICES BY TWISTED-PAIR WIRING, COAXIAL CABLE, OR  FIBER OPTIC C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IQUETTE=THE EIQUETTE THAT SHOULD BE FOLLOWED WHEN USING A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TOCOL=A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=THE LOGICAL ARRANGEMENT OF THE NODES ON A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NETWORKS=A TYPE OF NETWORK THAT DOES NOT REQUIRE THE USE OF C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TERFACE CARD=A CIRCUIT BOARD THAT GOES INTO THE BASE UNIT OF A COMPUTER OR OTHER DEVICE IN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SP=INTERNET SERVICE PROVIDER IS A COMPANY THAT OFFERS ACCESS TO THE INTERNET FOR A 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B SITE=A SERIES OF RELATED WEB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44:22Z</dcterms:created>
  <dc:creator>765860</dc:creator>
  <dc:description/>
  <dc:language>en-US</dc:language>
  <cp:lastModifiedBy>765860</cp:lastModifiedBy>
  <dcterms:modified xsi:type="dcterms:W3CDTF">2009-04-17T15:36:45Z</dcterms:modified>
  <cp:revision>3</cp:revision>
  <dc:subject/>
  <dc:title>Slide 1</dc:title>
</cp:coreProperties>
</file>